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84453"/>
        <c:axId val="34005039"/>
      </c:barChart>
      <c:catAx>
        <c:axId val="79084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05039"/>
        <c:crosses val="autoZero"/>
        <c:auto val="1"/>
        <c:lblAlgn val="ctr"/>
        <c:lblOffset val="100"/>
        <c:noMultiLvlLbl val="0"/>
      </c:catAx>
      <c:valAx>
        <c:axId val="34005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84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604-CB19-4256-9DFE-77FCCD94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D07-D8BB-4583-B970-F29EBAE3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320-F3B1-44C3-B677-66B2AB57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3A6-C126-4BA2-A173-03FA4C76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CFA-6B9E-4CEE-8202-95988B8F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9D5-F651-4973-840B-28D177F4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F24-4047-4197-83BE-03A848B6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836-D242-4046-AF83-D8115EE3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117-471A-458D-83C8-7DA86D9D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E1B-4EBF-482A-AC1D-1489F42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51C-6D4E-437C-847B-958E8CB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8FB-756B-40C3-A126-0EE9CFBB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DCD6A-ED96-4304-BDBD-72104483A8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