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52357"/>
        <c:axId val="1979841"/>
      </c:barChart>
      <c:catAx>
        <c:axId val="48552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9841"/>
        <c:crosses val="autoZero"/>
        <c:auto val="1"/>
        <c:lblAlgn val="ctr"/>
        <c:lblOffset val="100"/>
        <c:noMultiLvlLbl val="0"/>
      </c:catAx>
      <c:valAx>
        <c:axId val="1979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52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D29F-9179-43BA-A41D-DBF13DBBB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C0BE-293E-4E6C-877B-F30626FFD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FA64-891B-4B0D-A15C-C5FE6980E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7E6-5952-4582-9BED-6B9647C99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29F-BBEB-44AE-88BF-3C2F7B8F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6BE-7274-433C-BE2B-966DAD39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6BCC-DE30-42CA-BA6C-D7224CFB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A2C-099F-4E8B-BBD0-99B60FFB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ABE6-85A3-4861-B0B8-F8B16ED8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E2DF-EB5F-4981-ABE0-1742E8C2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54F-35D4-4B6A-88CD-A996D0C8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313-A18C-4298-A240-0453DABB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E3F5D-3AC8-4F33-962A-D2CCDD6AC21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