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41454"/>
        <c:axId val="8346586"/>
      </c:barChart>
      <c:catAx>
        <c:axId val="86741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6586"/>
        <c:crosses val="autoZero"/>
        <c:auto val="1"/>
        <c:lblAlgn val="ctr"/>
        <c:lblOffset val="100"/>
        <c:noMultiLvlLbl val="0"/>
      </c:catAx>
      <c:valAx>
        <c:axId val="8346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41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767-75AE-436B-AF6D-F4238631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9162-4A25-48AF-BAEB-989211D7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CBB-FE50-4FCE-9C08-4E8763C4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3BE-7877-47E1-8DC1-D1BAB90A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A47-D5C2-43BE-B454-FD995943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85D-853D-4E58-A834-DF42BAC6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6221-6AD2-400B-A95B-069955AE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E43-4486-4234-ABC5-89FD7E4C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001-9B17-4008-9490-348E306D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FD4-56B8-419D-AC3E-80073890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98F-24F8-4790-9375-BC6D429E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668E-6A6A-47F9-88F6-E4F39F39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84D10-BDA2-4CC6-98EA-806E1D3CCC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