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72216"/>
        <c:axId val="39917890"/>
      </c:barChart>
      <c:catAx>
        <c:axId val="3772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17890"/>
        <c:crosses val="autoZero"/>
        <c:auto val="1"/>
        <c:lblAlgn val="ctr"/>
        <c:lblOffset val="100"/>
        <c:noMultiLvlLbl val="0"/>
      </c:catAx>
      <c:valAx>
        <c:axId val="39917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2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227C-EC56-44B4-9994-30A51A44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0EFF-924B-4071-88DA-A1E4DA38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9C1-4B0C-4FEF-8DA7-27366899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39DB-3C8E-4DF9-8776-9DF7704F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E6B5-B832-4F27-85C5-621E3299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FE34-9564-444C-A0F2-960157D7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28CB-FD99-48EA-A416-8F6381F1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ADDD-0CB0-41C9-A661-B14DB33E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8BD8-8771-41D2-80D5-456CF7A4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B7E1-5922-4A60-8F4E-A119C0F0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3DA-52B4-47C5-BEF5-11F69C0A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42B-83BE-405C-9BD2-42E635B4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76C48-C25B-47FC-8824-6BEB75F858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