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00300"/>
        <c:axId val="14902399"/>
      </c:barChart>
      <c:catAx>
        <c:axId val="80200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02399"/>
        <c:crosses val="autoZero"/>
        <c:auto val="1"/>
        <c:lblAlgn val="ctr"/>
        <c:lblOffset val="100"/>
        <c:noMultiLvlLbl val="0"/>
      </c:catAx>
      <c:valAx>
        <c:axId val="14902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00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394-18D7-424F-B427-01EA9195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116-FD8D-466B-848A-574AACE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59D-4752-4039-AB77-9C0EFFD8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3AB-9C00-4FED-9FA3-8655552E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436-8899-40F9-8463-AF9C3752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557-BA06-4895-9B61-D113C909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750-DFC7-4DA7-82B9-738DDE3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21A-2474-4373-A8E2-A34733ED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9F6-C35D-494A-BFD2-1D04BAF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742-E7E8-49C6-927A-8EE354B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CC1-6EA8-497A-A722-24F23FB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907-426B-476B-BE19-007CBA5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EB5B9-E311-47A1-84DB-0CD7735071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