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20299"/>
        <c:axId val="10156129"/>
      </c:barChart>
      <c:catAx>
        <c:axId val="20020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56129"/>
        <c:crosses val="autoZero"/>
        <c:auto val="1"/>
        <c:lblAlgn val="ctr"/>
        <c:lblOffset val="100"/>
        <c:noMultiLvlLbl val="0"/>
      </c:catAx>
      <c:valAx>
        <c:axId val="10156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20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09A-CFFE-473A-9E86-2D7FD416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1CD-EA8F-4E3C-B995-8C1B8266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D98-E0C8-482D-9DCA-638D7D67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7E9-282D-4038-B7B7-A07BF1A5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56C-2172-4175-A692-6944C79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91E-6659-480D-855A-7E58046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E50-4EBA-4695-8F2B-88CB758F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E39-AB5B-4B96-A616-51A26D59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892-B27C-48D2-B2C4-D5E0CFC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58C-6B54-4D86-B8B8-2F8AAB9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A7C-1CF9-4C94-A808-B3EFE6C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109-12E0-4629-B4EA-19DAD46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D1D1-9B21-4BD7-A81D-4939142B49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