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72867"/>
        <c:axId val="52592865"/>
      </c:barChart>
      <c:catAx>
        <c:axId val="47172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92865"/>
        <c:crosses val="autoZero"/>
        <c:auto val="1"/>
        <c:lblAlgn val="ctr"/>
        <c:lblOffset val="100"/>
        <c:noMultiLvlLbl val="0"/>
      </c:catAx>
      <c:valAx>
        <c:axId val="52592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72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B6F-0515-4CCD-828B-135E6020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E66-D02B-4C87-99BA-C84938C6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202-FAD9-4608-8E11-FDD22A63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35B-9734-4215-A76B-AFD777BF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ACC-A32E-4F48-B839-4F80ED18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8E9-43B2-4E8E-8187-C73CD5E9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024-4B4E-46FF-8D2C-3BC99DDD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6A3-E85E-4CA2-AA85-F99BEACD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CD8-B7AC-43A4-8D44-3E0179A6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330-2749-4B79-8476-593BBF23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61C-C6A3-418B-921A-02D33A80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D9E-B22C-4050-911E-44A5D39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5DEF2-B115-44B6-8F5B-355A77C6C5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