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82893"/>
        <c:axId val="39210740"/>
      </c:barChart>
      <c:catAx>
        <c:axId val="68382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10740"/>
        <c:crosses val="autoZero"/>
        <c:auto val="1"/>
        <c:lblAlgn val="ctr"/>
        <c:lblOffset val="100"/>
        <c:noMultiLvlLbl val="0"/>
      </c:catAx>
      <c:valAx>
        <c:axId val="39210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82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FEA-E422-4E2F-AC29-45AC950F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ED5-72FC-40D3-BF1F-A7A97621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C84-F681-4C96-800B-017F3CCB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9DA-6100-4308-BB94-66BA7383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8B1-069F-4241-868D-90649F11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FC8-982B-450C-A0F5-C1137F17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0F7-9860-4708-9F78-B14C720D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838-16D6-4F96-8BD9-9B495CD8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AB0-C743-4DCA-ACB4-BC97F79A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DC1-F544-4FB6-8312-AD8D3EA0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118-1C4C-47E4-A184-0DA2DC45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FA4-FF5A-4725-9C5F-4F68D3AD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C1F72-B6FE-4052-BDF7-8739FBFB3F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