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79754"/>
        <c:axId val="26482197"/>
      </c:barChart>
      <c:catAx>
        <c:axId val="71879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82197"/>
        <c:crosses val="autoZero"/>
        <c:auto val="1"/>
        <c:lblAlgn val="ctr"/>
        <c:lblOffset val="100"/>
        <c:noMultiLvlLbl val="0"/>
      </c:catAx>
      <c:valAx>
        <c:axId val="264821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79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E71-5241-4863-9544-781160CB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799-44D5-47BF-AFB9-08CBF3CC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810-7C46-4588-AEFF-21C88890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A292-2D3E-4869-BC6D-659AC851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42C-26AE-423A-9E06-BFD6D920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646-93B4-4922-89C1-B4383079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DCFC-7906-46B7-B813-E6130E58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6F7-A8D2-4B23-8C57-5DFEC6B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857-E912-44BB-BD44-A84EF0CD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EAB-C651-4270-97B5-C31DFF2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D6D-A128-4993-B5C3-A6DC1F5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EF1-0093-4D65-B029-554C3EAE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57C85-95DA-4DBF-8881-E1DB3C73C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