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1967"/>
        <c:axId val="50158064"/>
      </c:barChart>
      <c:catAx>
        <c:axId val="7721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8064"/>
        <c:crosses val="autoZero"/>
        <c:auto val="1"/>
        <c:lblAlgn val="ctr"/>
        <c:lblOffset val="100"/>
        <c:noMultiLvlLbl val="0"/>
      </c:catAx>
      <c:valAx>
        <c:axId val="50158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CFF-47C0-4154-933B-F069B4A9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EC1-F01D-4077-ABAA-33091D64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B02-034B-464C-A852-0E0B6D2C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4AE-3737-455F-9880-4B82310D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F24-3ECC-42C3-AAD0-A0E685E6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5EC-6EE1-4061-81D9-9E6CA6F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021-AE41-4099-B52E-F018B797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0C6-6386-4FA3-8576-DFAF454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A56-9E2D-4F2E-83D3-6C7DA62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E8D-AC59-48FB-BAC3-1BFDFB6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F64-B952-4D7F-8CBF-B83F65F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854-F949-4B86-AE4F-1B8CCE6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AA4DD-443F-4325-8F0D-84552F9DB5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