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17773"/>
        <c:axId val="3451902"/>
      </c:barChart>
      <c:catAx>
        <c:axId val="25117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902"/>
        <c:crosses val="autoZero"/>
        <c:auto val="1"/>
        <c:lblAlgn val="ctr"/>
        <c:lblOffset val="100"/>
        <c:noMultiLvlLbl val="0"/>
      </c:catAx>
      <c:valAx>
        <c:axId val="345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17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6BB-53E2-4CA7-A6C6-B48B82E8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0E0-74F1-4F6B-9546-F8A3E04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487-1911-4DF6-B270-DF911302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1A6-C665-4717-93F9-15DABE1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3EF-D1E4-431E-99CC-87D1773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68C-8C66-45AC-847A-1B33D6D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713-8ACD-4054-8936-A47196B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CA6-13D2-47BF-96FE-42B5F1DE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305-EDCB-4912-B18E-CB7CA24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0AA-6E32-4E33-B482-D59DF48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98E-ACF6-459E-910B-AF4D19F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6B1-BD73-4CC5-A748-C101448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329E-177A-4FE4-ABE3-DAC67980D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