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20156"/>
        <c:axId val="49160253"/>
      </c:barChart>
      <c:catAx>
        <c:axId val="40020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0253"/>
        <c:crosses val="autoZero"/>
        <c:auto val="1"/>
        <c:lblAlgn val="ctr"/>
        <c:lblOffset val="100"/>
        <c:noMultiLvlLbl val="0"/>
      </c:catAx>
      <c:valAx>
        <c:axId val="49160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20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C75-3BAA-4194-9A7D-DF1FC870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8AC-DEC1-40DA-89F8-E469CA6A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EAF-B6A8-43FC-9410-1A494281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0D4-BBB5-4200-B70F-B909064C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07B-C804-4B39-8981-357D6926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BB2-90E4-4D2E-9ECD-4F785A43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489-D5DC-443E-825C-85409AE0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FAE-11CA-486A-A7A1-0F85CBDC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CA2-C86B-4BCA-8B4F-BC9A2CE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048-F222-4BE9-9D8C-264439F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C92-AB01-4448-86C4-81B469D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E62-A731-451D-A3AE-E48A5F5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EADAE-073A-4A16-8E87-BEE0179CAD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