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6570"/>
        <c:axId val="34008756"/>
      </c:barChart>
      <c:catAx>
        <c:axId val="7066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08756"/>
        <c:crosses val="autoZero"/>
        <c:auto val="1"/>
        <c:lblAlgn val="ctr"/>
        <c:lblOffset val="100"/>
        <c:noMultiLvlLbl val="0"/>
      </c:catAx>
      <c:valAx>
        <c:axId val="34008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6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D9C-C209-475E-9287-DF7A5BAD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5F60-213D-4CDF-B177-FAA89F3F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5DD-A4FA-4E2E-AC03-A99E8B01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784-327E-42A0-A073-023749BA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CE71-999B-4D9D-9C7D-9F5D8623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FC2B-E941-44DA-B9C2-3E9BB214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C48-D270-402F-B004-92964723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3E06-4140-4E0C-9240-A51EE3ED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2A0-FE30-4D66-B3CE-16367B93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1AF-CD4A-404A-9073-581985FA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3A9-CDC1-4400-90BF-E99FBF62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300-C577-4464-8DCD-80889733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9EF18-A9FD-4498-9AD3-313ED8D7EB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