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80416"/>
        <c:axId val="70357501"/>
      </c:barChart>
      <c:catAx>
        <c:axId val="85880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57501"/>
        <c:crosses val="autoZero"/>
        <c:auto val="1"/>
        <c:lblAlgn val="ctr"/>
        <c:lblOffset val="100"/>
        <c:noMultiLvlLbl val="0"/>
      </c:catAx>
      <c:valAx>
        <c:axId val="70357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80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602-2E33-4B36-BC2F-7D43D3FE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828-E676-4D60-A521-FDA2000C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58A-D326-415F-B34C-C27B727F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07E-0B91-48CF-8EF0-96FADEAC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67A-E2B8-495A-A638-1BF77425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AE8-1480-42CD-930C-066694C0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ABD-F92B-485D-82A7-79C14165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E84-781F-400F-B53F-A8D3B142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10E-5311-4C31-8D5C-1A520221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F34-5D54-4046-A648-4384C6B6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512-0453-48E0-ABAE-AF808DA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5ED-B49B-413F-9E2D-6857ABD8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0E8A4-04C0-420E-84FC-64C64EBFD5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