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382576"/>
        <c:axId val="27288906"/>
      </c:barChart>
      <c:catAx>
        <c:axId val="943825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88906"/>
        <c:crosses val="autoZero"/>
        <c:auto val="1"/>
        <c:lblAlgn val="ctr"/>
        <c:lblOffset val="100"/>
        <c:noMultiLvlLbl val="0"/>
      </c:catAx>
      <c:valAx>
        <c:axId val="272889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825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008A-35AB-408A-ACE7-4B92E33F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2DCE-7005-4D14-9A48-2A94A849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C619-D00C-4CF8-8EEA-7B62A129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5310-FB20-4737-B4D9-AC174F17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F6F-2798-414C-83BF-53393B07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8A9C-4B21-4F08-BE12-D511A6F6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601B-AB2E-4724-83EB-0FF9B087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0448-D3F0-4D58-A1F9-0260C926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BC83-3698-469F-A29E-5BD303A4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D4E4-A97F-4F2C-B568-B7A07E87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CDD-6D1C-4C54-B6C6-885627A3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3B52-241F-4C0A-87F3-44E5E9B1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7DFE8-A230-434F-98DC-921E01BFB3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