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47145"/>
        <c:axId val="80297718"/>
      </c:barChart>
      <c:catAx>
        <c:axId val="25147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97718"/>
        <c:crosses val="autoZero"/>
        <c:auto val="1"/>
        <c:lblAlgn val="ctr"/>
        <c:lblOffset val="100"/>
        <c:noMultiLvlLbl val="0"/>
      </c:catAx>
      <c:valAx>
        <c:axId val="80297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47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957-6CCC-4C70-A227-00773C65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DD-3C51-45AB-8008-93BEEF6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D17-A198-467E-AA8D-4D2F055A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260-38F5-4D84-A322-0F80E969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9A9-D3BA-4069-BB76-6210B17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CC2-F93C-4832-BBF5-FD1F758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6EF-387B-42DB-8D0B-BBC1167C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0A1-489E-4CD1-9F8D-2F1EFEF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BCE-5680-4BF8-B116-A2CBB23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C9C-1F6E-49E1-95F8-29EBA06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4F2-3687-4151-9CAA-AFD39E1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2D7-2DDF-4159-9185-15F3B21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6801-412F-4440-863B-484087194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