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44338"/>
        <c:axId val="25553998"/>
      </c:barChart>
      <c:catAx>
        <c:axId val="63844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53998"/>
        <c:crosses val="autoZero"/>
        <c:auto val="1"/>
        <c:lblAlgn val="ctr"/>
        <c:lblOffset val="100"/>
        <c:noMultiLvlLbl val="0"/>
      </c:catAx>
      <c:valAx>
        <c:axId val="25553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4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C56-C623-4180-B2AA-E5810BC3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032-254C-4C10-BF46-BC8A34E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064-7520-4738-AA75-584891EC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F7A-5818-4A48-AC39-CF7C8000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21C-76D9-4E3A-AFD1-339BFE48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E44-CECB-4CF7-8838-5470C7B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4C7-D1BA-4514-AA0B-08333829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308-BC28-4FD1-827F-BA8B5BD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23B-4C8C-443B-9557-C90C1237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4E5-10BA-4F44-B1A8-863B4C3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009-6341-45DB-9480-6E434852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E15-C363-4286-9A6C-AD8F65F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23BB9-0148-49FC-833F-7F65E4E5A1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