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19710"/>
        <c:axId val="21641857"/>
      </c:barChart>
      <c:catAx>
        <c:axId val="13119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41857"/>
        <c:crosses val="autoZero"/>
        <c:auto val="1"/>
        <c:lblAlgn val="ctr"/>
        <c:lblOffset val="100"/>
        <c:noMultiLvlLbl val="0"/>
      </c:catAx>
      <c:valAx>
        <c:axId val="21641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19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73A-CC61-41ED-8CCD-1BF8326A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19B-8106-471A-9537-9E096D2E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855-775C-4DFF-BAD7-72050217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09A-0448-4C5A-884F-189323E5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254-8376-41A8-8B5F-01446664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FFC-EA95-43A8-BE4F-9C9B7BC0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DF1-1388-4647-9BCF-BB1A52D5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4B1-5885-4470-BD84-B224D024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749-D349-4872-97FC-3CAED801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62B-75BA-4EA9-B3D4-9AD8BCA1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CF0-F013-40AA-A9C9-58F9DA4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EAF-E355-4BAC-A06C-55901D52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BBF94-9712-4D74-8817-D966D73F5F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