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07128"/>
        <c:axId val="1413478"/>
      </c:barChart>
      <c:catAx>
        <c:axId val="237071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3478"/>
        <c:crosses val="autoZero"/>
        <c:auto val="1"/>
        <c:lblAlgn val="ctr"/>
        <c:lblOffset val="100"/>
        <c:noMultiLvlLbl val="0"/>
      </c:catAx>
      <c:valAx>
        <c:axId val="14134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071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7D8D-B12F-4EB9-8E70-F6936037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947E-A868-4866-AB2B-D880F8E0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FD7B-3113-4B39-88A9-23F27319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E17D-8525-47D1-B8B1-44169344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E7CC-7C4E-4832-8847-1DAF72B5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4CB4-C2B9-4F99-A4FB-1F284265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01A-9091-4588-BF14-AD8C085F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1E4-7D70-4DF8-B50C-7B900651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23C3-7C8C-48F5-88BF-8A78878B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1A6-B136-4CF6-B6CE-7225F6CF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C541-B0FA-4380-8BEE-7269DB75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00E-6EDB-4749-8184-20DF19CF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CAD09-A84B-4B1F-AB69-C5951C1FAA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