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078081"/>
        <c:axId val="3056048"/>
      </c:barChart>
      <c:catAx>
        <c:axId val="460780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56048"/>
        <c:crosses val="autoZero"/>
        <c:auto val="1"/>
        <c:lblAlgn val="ctr"/>
        <c:lblOffset val="100"/>
        <c:noMultiLvlLbl val="0"/>
      </c:catAx>
      <c:valAx>
        <c:axId val="30560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0780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FCEB-8836-4A0D-B3F4-78E939A47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33E2-3E18-4B0A-8817-E2B7C93D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C9E3-2D35-4827-A88C-B8B2708C6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A35C-50AE-482E-A885-4D09F1C86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7C61-0FBB-406C-A69D-77DC6641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7FB0-CF60-4CD8-9924-63330EF2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D8BB-C66D-489A-B555-D332F291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DA9B-4153-4AF2-80BB-21B1C66B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6039-6A77-41EB-8B57-71FDF55E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8C6C-FAFF-47CD-942C-06A29692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4FF8-8CDC-4194-B47A-EEEAB151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9C7E-EB32-4BDE-A2D5-1085CF63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FF4E5-5E81-4E97-B42D-D44D792352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