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4001"/>
        <c:axId val="79577606"/>
      </c:barChart>
      <c:catAx>
        <c:axId val="48264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77606"/>
        <c:crosses val="autoZero"/>
        <c:auto val="1"/>
        <c:lblAlgn val="ctr"/>
        <c:lblOffset val="100"/>
        <c:noMultiLvlLbl val="0"/>
      </c:catAx>
      <c:valAx>
        <c:axId val="79577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4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0F3-5FC4-4C45-897A-084479A5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D91-8FA9-4E17-AE0C-182A4C4D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12D-F41F-406D-A147-1BA4C497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93E-ACDF-49B3-BACD-5797D0D3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A79-2BE0-42BD-A22F-8162AB14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EA3-86A3-455B-9515-C4E8C3D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359-3E92-4288-88B4-58E287F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773-7865-4D74-A6E2-3485B211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37A-53C0-41A9-A612-0EE1A658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66C-197B-487F-BDFD-2D67608F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65E-D409-410E-8C16-B3C4CA2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BA8-1E0C-4187-9D7C-834384B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5B55-921C-4CBF-B378-DF7932EEAB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