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99438"/>
        <c:axId val="80133793"/>
      </c:barChart>
      <c:catAx>
        <c:axId val="80399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33793"/>
        <c:crosses val="autoZero"/>
        <c:auto val="1"/>
        <c:lblAlgn val="ctr"/>
        <c:lblOffset val="100"/>
        <c:noMultiLvlLbl val="0"/>
      </c:catAx>
      <c:valAx>
        <c:axId val="80133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99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BEC-2C0E-4C3D-BB19-09B3FF84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10F-9520-4F6F-945F-40BF4AEC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FC7-9A13-4F81-8986-624883D5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C6F-DFA3-479A-B22E-DA522A88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B9B-BA76-4F1F-9FA6-F0B1B5D8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739-B597-477A-AD62-6477120A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EE5-B76E-417B-921F-C9F045E3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E01-39DA-4593-AEC5-692FDF78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B8E-E0BA-4FDF-AD7C-626D9173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0EA-585C-4273-B933-9973A437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C13-4619-47EB-83C4-FA1AC9CA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D5B-82DB-4579-8AA8-A0F7A800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30E8B-D848-43E2-8D48-AEDAFA92DF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