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83391"/>
        <c:axId val="98031729"/>
      </c:barChart>
      <c:catAx>
        <c:axId val="62783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31729"/>
        <c:crosses val="autoZero"/>
        <c:auto val="1"/>
        <c:lblAlgn val="ctr"/>
        <c:lblOffset val="100"/>
        <c:noMultiLvlLbl val="0"/>
      </c:catAx>
      <c:valAx>
        <c:axId val="98031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83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88A-D7F1-4E89-8627-832C8EF9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EE3-906E-441E-8B34-24B7E58D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5DD-3BB2-4C28-A9B7-A34E4C32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EC3-1260-4BD8-888F-F83BA44D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E33-4315-490D-B3E3-8FEBD7BC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02A-A328-48B6-846C-474A842D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7FE-C576-4DEC-A496-34142407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4DC-CA50-4BB1-A809-81E5CC84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CC4-B6FB-4076-9A40-B5529389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A80-678F-4BA2-A51A-E243E066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76D-39A4-4CD7-84A1-0D774FBA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0D2-C45E-4223-8515-9E9A283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38B07-C9A8-4AF4-B61D-39289F0B5B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