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35269"/>
        <c:axId val="67542455"/>
      </c:barChart>
      <c:catAx>
        <c:axId val="72352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42455"/>
        <c:crosses val="autoZero"/>
        <c:auto val="1"/>
        <c:lblAlgn val="ctr"/>
        <c:lblOffset val="100"/>
        <c:noMultiLvlLbl val="0"/>
      </c:catAx>
      <c:valAx>
        <c:axId val="675424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52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5C69-A342-4A58-A843-79013B798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6D2-A767-49EE-8F88-72A9F93D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4CC4-8879-4221-812B-0E740931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1EF-B453-47A9-B687-52F30648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BE84-5FBE-4E26-8872-EE8FAF98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2DB-19FB-4225-B6DD-F5BE2724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440-DA3F-4043-9A68-FF02D648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573-3123-4122-8C48-97E7D050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1645-5F71-4924-9730-2801B0EAE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C90-8E6F-47E0-A23E-B9350F81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47D2-137E-4C81-939A-9414211F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ECF5-19BD-45B2-BE3A-8800053F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DC822-FF48-4C82-80DF-EFD288295D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