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251447"/>
        <c:axId val="35994935"/>
      </c:barChart>
      <c:catAx>
        <c:axId val="892514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994935"/>
        <c:crosses val="autoZero"/>
        <c:auto val="1"/>
        <c:lblAlgn val="ctr"/>
        <c:lblOffset val="100"/>
        <c:noMultiLvlLbl val="0"/>
      </c:catAx>
      <c:valAx>
        <c:axId val="359949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2514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6B36-F902-40E7-A318-3BD87AAB2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2523-759C-4B87-B6B1-BEC6B1E07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1E7E-DEDF-4D9E-B284-167410A3B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01AC-F80F-460C-A4FA-48596201F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7191-45A6-469C-BC59-64F709C3E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CA49-FEEC-4783-A5C1-930336445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5E3F-A710-4CE8-B28D-701ACB582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36CC-4813-429B-A668-CA0FE9579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26E6-059B-4FF5-80CE-5971CE76A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7A50-9922-4798-B140-0795F0F6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4D63-9DA2-43E8-B1E2-6CABA1BE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9C82-B4F0-434B-AD1C-851C1553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B72873-21C3-4580-AA44-EF7CF300086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