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02251"/>
        <c:axId val="3868077"/>
      </c:barChart>
      <c:catAx>
        <c:axId val="62902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8077"/>
        <c:crosses val="autoZero"/>
        <c:auto val="1"/>
        <c:lblAlgn val="ctr"/>
        <c:lblOffset val="100"/>
        <c:noMultiLvlLbl val="0"/>
      </c:catAx>
      <c:valAx>
        <c:axId val="3868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02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908-9B46-4874-B81D-613738AF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F75-CC6C-474E-A800-CA9E8E7D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BA6-FAB4-416D-AE59-F4500B1C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4B6-743C-4A70-A542-37EB3BBD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4E8-1327-4AE0-9557-8AD1BB23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63A-8A8B-4C36-A526-FF8D6311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7EA-BCAF-403C-BE4C-9CDEFB42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18D-2EBC-482C-918F-78A5FD5C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959-5050-4FE0-A6F5-2C5F4021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6AC-4295-47C0-8551-90CF6B5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3DB-14C1-4F05-8FB3-C1C282C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E5E-4B90-49A9-A12A-15D1D73F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0C962-8B91-412F-B98D-20ADAB2F8A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