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039225"/>
        <c:axId val="19540613"/>
      </c:barChart>
      <c:catAx>
        <c:axId val="500392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40613"/>
        <c:crosses val="autoZero"/>
        <c:auto val="1"/>
        <c:lblAlgn val="ctr"/>
        <c:lblOffset val="100"/>
        <c:noMultiLvlLbl val="0"/>
      </c:catAx>
      <c:valAx>
        <c:axId val="19540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392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823-0F75-492E-9B2B-41971C5A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4B1-307B-4C8B-AFE0-145C8645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55B-D5A8-42E3-9D68-C7126851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88A-2399-4CC5-885E-9B990B85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830E-FE6A-40B7-B5CB-E02A03E8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CF1-34B8-49DF-8E69-9247D1F7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809-5C75-4E4C-8C6F-450B251B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1A8-7B0E-44A6-B856-A3419BDF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A6B-6DB5-4961-AE3C-00BB7121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F5B-5EC0-4C1D-A9F3-98E427C9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58F-D4BA-4C98-AA4D-C3D590BE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A37-FB2B-441F-A7DC-0586C2B1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9F018-3A0D-4917-91C5-4BC29C2BCF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