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58551"/>
        <c:axId val="81464182"/>
      </c:barChart>
      <c:catAx>
        <c:axId val="43758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64182"/>
        <c:crosses val="autoZero"/>
        <c:auto val="1"/>
        <c:lblAlgn val="ctr"/>
        <c:lblOffset val="100"/>
        <c:noMultiLvlLbl val="0"/>
      </c:catAx>
      <c:valAx>
        <c:axId val="81464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58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124-47FC-499C-9B92-792AC5EC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889-131E-45B4-8F6A-B504980E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0BA-603A-448E-A6EB-E241971C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C4C-2A58-42FD-BB6B-4C15DD41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DE6-D2F2-4C3A-9CFA-5161F18C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3F4-8E1F-46BD-A742-EA47F743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465-FFFA-4736-AE4E-AB0AA917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784-0C0E-45CC-9278-FDEC63C1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EF9-00DC-43E5-91A6-7EF0EBCE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D61-AAE8-4B52-B01F-90798E93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4D0-54F6-439C-BC1D-2DE6D76A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B9D-09D4-48E0-82D5-BFFCF5DE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F9101-E8E5-413C-B81B-683C7F3648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