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387200"/>
        <c:axId val="14805194"/>
      </c:barChart>
      <c:catAx>
        <c:axId val="583872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805194"/>
        <c:crosses val="autoZero"/>
        <c:auto val="1"/>
        <c:lblAlgn val="ctr"/>
        <c:lblOffset val="100"/>
        <c:noMultiLvlLbl val="0"/>
      </c:catAx>
      <c:valAx>
        <c:axId val="148051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3872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0E7F-F025-4457-8393-68C5EB539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E0A3-0479-49AA-98F5-222DFF524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6D95-B6B8-4506-B137-80863C8C9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4F56-6170-4D01-BA01-7065FC783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557D-6F68-407F-A391-2AC8495A1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5348-5468-48A8-A37B-4B7DA0FD5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0F7A-EBEF-4E8D-8F2B-4878664C3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B933-8B5C-4477-B0F2-1C7A51327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EF9A-2000-466D-BBBC-88F48A25F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324A-0E9D-4A15-AE07-CE0EECA73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ECFF-3CF3-4F66-A2A3-FA38D8562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E9BA-AEC4-4334-B0A3-A7A9C9B22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327621-CE3D-4D43-9C34-4F88E6BBF21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