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13508"/>
        <c:axId val="97782122"/>
      </c:barChart>
      <c:catAx>
        <c:axId val="98213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82122"/>
        <c:crosses val="autoZero"/>
        <c:auto val="1"/>
        <c:lblAlgn val="ctr"/>
        <c:lblOffset val="100"/>
        <c:noMultiLvlLbl val="0"/>
      </c:catAx>
      <c:valAx>
        <c:axId val="97782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13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39A-4A69-4140-A2AA-7CA9CFB9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54F-7B66-4B2F-9F6B-7BF8B4DD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E34-B837-4F94-A645-62B18EC3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D4D-418A-4AAB-B5B6-24BF7BF1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CFC-15D2-4BAB-A64C-6638C9CD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27E-9BF5-4C5F-91D1-F8A525E4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693-D7E6-40ED-AB01-13D1454F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559-9617-400F-A050-85DEEBE8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DE8-2781-46E8-ADC1-EB2732A5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C39-8DC0-427F-B049-28F3501F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00A-4ED9-4125-89C9-F2A3AB7E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0BF-AE70-412D-8D3E-87939F16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90285-B7B0-4DC9-93B0-A086F7585A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