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46978"/>
        <c:axId val="25725663"/>
      </c:barChart>
      <c:catAx>
        <c:axId val="55746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25663"/>
        <c:crosses val="autoZero"/>
        <c:auto val="1"/>
        <c:lblAlgn val="ctr"/>
        <c:lblOffset val="100"/>
        <c:noMultiLvlLbl val="0"/>
      </c:catAx>
      <c:valAx>
        <c:axId val="25725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46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F34-A692-4D33-BD6B-01EA9291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741-C1A1-46DB-9BCE-3CC3B60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212-7BDE-4753-B8CB-E6903F04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DAA-F061-4863-90A8-E64D33B6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9F8-8069-4071-922B-55754553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7C6-F199-4900-812D-CCEDED51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3F5-D035-4153-A464-E9ABFD4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7C6-5771-4666-AAEC-47269403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8BE-6C29-41DE-AB30-514999BD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41C-7C4D-408A-A15B-5012837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421-A89F-4E2A-A707-5DD1DF07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A54-D266-42B0-A710-9A45593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6929D-898D-41F0-9DA3-24042380F0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