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007043"/>
        <c:axId val="17204302"/>
      </c:barChart>
      <c:catAx>
        <c:axId val="640070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204302"/>
        <c:crosses val="autoZero"/>
        <c:auto val="1"/>
        <c:lblAlgn val="ctr"/>
        <c:lblOffset val="100"/>
        <c:noMultiLvlLbl val="0"/>
      </c:catAx>
      <c:valAx>
        <c:axId val="172043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0070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4579-53D3-475E-A43F-AD4862C88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F645-A246-481B-91EA-8E9D9EF5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60A1-20A2-496D-B4D3-1110375F0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B1DE-A617-4902-A993-363B942CA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4871-EFDE-40EB-B4E5-21176F94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FA8E-DC0D-4FEB-A22C-FFFC4459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A15F-8C37-4CDE-8B37-4C6D2362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12E5-C1C2-4B1D-B0C7-76B8707F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F03D-8DD0-476B-BBB2-EAFCFE78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412B-C496-45C7-A044-364DD1B3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5876-6A6F-42C3-97AE-F22B2F46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B3D8-39CD-481E-8C4C-A7F22BD3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926F1-765C-4527-B150-F9F2EACBF6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