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58596"/>
        <c:axId val="93711913"/>
      </c:barChart>
      <c:catAx>
        <c:axId val="24758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11913"/>
        <c:crosses val="autoZero"/>
        <c:auto val="1"/>
        <c:lblAlgn val="ctr"/>
        <c:lblOffset val="100"/>
        <c:noMultiLvlLbl val="0"/>
      </c:catAx>
      <c:valAx>
        <c:axId val="93711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8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EFF-2FF8-4DFD-BEDC-73ED8B66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C8A-DD53-43F2-9D13-561BF78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2C4-EF03-4988-B4EA-3FEE5143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FBA-D4D7-4D45-95DE-44C63597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2D0-82E6-4DB8-8CAB-8D83FF8D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299-FA2D-45BA-8688-B7E9B2B9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D3B-8AA4-49EC-8307-3DD5A25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DB8-88E3-406F-8D36-12E661E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DA8-DACC-441C-92B6-456B94B8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961-85B0-456A-A472-A396DB1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15B-A260-48D4-92F2-E46AEF3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086-BD35-4E87-ADF5-4112EA8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8FF4-CE44-42DD-984A-5E3DA15828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